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19B0-13F4-482B-9568-C48CBB2F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F0ED-5E2B-43A0-9DDB-42BDD05C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4B09-F5AF-448F-B5DD-90E85E89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43E-8182-4873-A1B7-18B24C7F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237-9D78-473C-8D49-FAB8892F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E35-9BE1-4313-9BC5-87422CC0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7A7E-824D-4DC7-94CD-6EAA537E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FC6-57FB-446A-A4FD-60536BA9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C869-BB5E-49BF-B8AB-99D6F91E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BDC-58BB-4AF7-933D-B62E8A15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62B2-98CB-40F6-9BEC-33389096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9C6-EE9D-473E-9BEA-A45E60BD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4048-9EEE-4A30-80ED-B484757BB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Имя твоё неизвестно, подвиг твой бессмертен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ом Павл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40360" y="1773360"/>
            <a:ext cx="4617720" cy="280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3240000" cy="36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Монумент Матери –Родине в городе Волгогра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967280" cy="3960720"/>
          </a:xfrm>
          <a:prstGeom prst="rect">
            <a:avLst/>
          </a:prstGeom>
          <a:ln w="0">
            <a:noFill/>
          </a:ln>
        </p:spPr>
      </p:pic>
      <p:pic>
        <p:nvPicPr>
          <p:cNvPr id="77" name="Текст 2" descr=""/>
          <p:cNvPicPr/>
          <p:nvPr/>
        </p:nvPicPr>
        <p:blipFill>
          <a:blip r:embed="rId3"/>
          <a:stretch/>
        </p:blipFill>
        <p:spPr>
          <a:xfrm>
            <a:off x="6227640" y="1700280"/>
            <a:ext cx="22291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ашей армией командовал Георгий Константинович Жуков . Именно ему удалось отстоять Москву. В дни наступления фашистов  на столицу Жуков не спал одиннадцать суток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130560" cy="504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067280" y="1484280"/>
            <a:ext cx="417672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Побед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i001.radikal.ru/0805/f5/2cd794e745c1.jpg"/>
          <p:cNvPicPr/>
          <p:nvPr/>
        </p:nvPicPr>
        <p:blipFill>
          <a:blip r:embed="rId2"/>
          <a:stretch/>
        </p:blipFill>
        <p:spPr>
          <a:xfrm>
            <a:off x="611280" y="1341360"/>
            <a:ext cx="5759280" cy="4680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156360" y="836640"/>
            <a:ext cx="2440080" cy="2409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"/>
          <p:cNvPicPr/>
          <p:nvPr/>
        </p:nvPicPr>
        <p:blipFill>
          <a:blip r:embed="rId4"/>
          <a:stretch/>
        </p:blipFill>
        <p:spPr>
          <a:xfrm>
            <a:off x="0" y="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Вечный Огонь- символ памяти о погибши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Текст 2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5688000" cy="306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i051.radikal.ru/0905/82/bf3197b3fe34.jpg"/>
          <p:cNvPicPr/>
          <p:nvPr/>
        </p:nvPicPr>
        <p:blipFill>
          <a:blip r:embed="rId3"/>
          <a:stretch/>
        </p:blipFill>
        <p:spPr>
          <a:xfrm>
            <a:off x="900000" y="4292640"/>
            <a:ext cx="3456000" cy="22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С праздником Побед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Мир солдаты защища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Жизнь они за нас отда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Сохраним в сердцах сво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Память светлую о них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7560000" cy="27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4067280" y="2781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306864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003640" y="1700280"/>
            <a:ext cx="3348360" cy="273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140360" y="4437000"/>
            <a:ext cx="1752480" cy="2238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826920" y="3789360"/>
            <a:ext cx="3276720" cy="2349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Начало войн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971640" y="177336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2913120" cy="39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5" descr="Картинка 37 из 1879"/>
          <p:cNvPicPr/>
          <p:nvPr/>
        </p:nvPicPr>
        <p:blipFill>
          <a:blip r:embed="rId3"/>
          <a:stretch/>
        </p:blipFill>
        <p:spPr>
          <a:xfrm>
            <a:off x="5365800" y="260280"/>
            <a:ext cx="3190680" cy="4248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Шёл солдат, слуга Отчизны,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Шёл солдат во имя жизни!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емлю спасая, мир защищая,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Шёл вперёд солдат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Брестская Крепость- пример мужеств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Текст 2" descr=""/>
          <p:cNvPicPr/>
          <p:nvPr/>
        </p:nvPicPr>
        <p:blipFill>
          <a:blip r:embed="rId2"/>
          <a:stretch/>
        </p:blipFill>
        <p:spPr>
          <a:xfrm>
            <a:off x="755640" y="1916280"/>
            <a:ext cx="3600360" cy="417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500720" y="1628640"/>
            <a:ext cx="3228840" cy="28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Защитникам Брестской Крепо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Текст 2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4176720" cy="4800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364000" y="1484280"/>
            <a:ext cx="309564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дписи на стенах Брестской Крепо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Текст 2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3613320" cy="4464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003640" y="1557360"/>
            <a:ext cx="332748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«Велика Россия, а отступать некуда- позади Москва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Текст 2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345132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788000" y="1844640"/>
            <a:ext cx="331308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Памятник Панфиловца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Текст 2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600360" cy="4340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859280" y="1484280"/>
            <a:ext cx="324180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Сталингра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Текст 2" descr="Картинка 44 из 8238"/>
          <p:cNvPicPr/>
          <p:nvPr/>
        </p:nvPicPr>
        <p:blipFill>
          <a:blip r:embed="rId2"/>
          <a:stretch/>
        </p:blipFill>
        <p:spPr>
          <a:xfrm>
            <a:off x="971640" y="1484280"/>
            <a:ext cx="3168720" cy="2665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427640" y="1700280"/>
            <a:ext cx="4038480" cy="2881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835280" y="4365720"/>
            <a:ext cx="4127400" cy="172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zer</cp:lastModifiedBy>
  <dcterms:modified xsi:type="dcterms:W3CDTF">2015-03-22T17:31:28Z</dcterms:modified>
  <cp:revision>15</cp:revision>
  <dc:subject/>
  <dc:title>Слайд 1</dc:title>
</cp:coreProperties>
</file>